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F15-4E60-4A2B-8152-9838C99D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7B5-CFAE-4712-88D5-D54BF75A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476-CB16-4735-9F96-6BDE2FC2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C8D-90E1-4C9D-928F-74E7F95C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4F1-B501-4490-87D3-C09AAABC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EC0-B872-405B-92D6-01139153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914-B87D-4BBD-81AD-6C7B4D40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E94-FC79-4954-84E5-6B17C531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1FC-841E-4941-91BA-A7257356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D8C-9734-4950-B9C0-832F3ADC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3D6-26FF-4A68-8BB7-E0E0A289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DDE7-0EBA-43E3-BA3B-D2019070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74f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1E11-6CAA-4B31-AFFE-754C42C53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90;&#1088;&#1086;&#1089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-529524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DSC05381"/>
          <p:cNvPicPr/>
          <p:nvPr/>
        </p:nvPicPr>
        <p:blipFill>
          <a:blip r:embed="rId1"/>
          <a:stretch/>
        </p:blipFill>
        <p:spPr>
          <a:xfrm rot="399000">
            <a:off x="4557600" y="3186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SC05384"/>
          <p:cNvPicPr/>
          <p:nvPr/>
        </p:nvPicPr>
        <p:blipFill>
          <a:blip r:embed="rId2"/>
          <a:stretch/>
        </p:blipFill>
        <p:spPr>
          <a:xfrm>
            <a:off x="1447920" y="3352680"/>
            <a:ext cx="251604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DSC05411"/>
          <p:cNvPicPr/>
          <p:nvPr/>
        </p:nvPicPr>
        <p:blipFill>
          <a:blip r:embed="rId3"/>
          <a:stretch/>
        </p:blipFill>
        <p:spPr>
          <a:xfrm rot="20846400">
            <a:off x="317520" y="5472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DSC05363"/>
          <p:cNvPicPr/>
          <p:nvPr/>
        </p:nvPicPr>
        <p:blipFill>
          <a:blip r:embed="rId4"/>
          <a:stretch/>
        </p:blipFill>
        <p:spPr>
          <a:xfrm rot="325800">
            <a:off x="4257360" y="351432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0800000">
            <a:off x="4419000" y="3786120"/>
            <a:ext cx="7596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нга- это мальчик, подросток, обучающийся морскому делу и исполняющий обязанности 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тро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некоторых флотах — младший матро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ЙУ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, 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НГ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Л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БКА</a:t>
            </a:r>
            <a:br>
              <a:rPr sz="7200"/>
            </a:b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Л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ЛЮВ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УР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Л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РЮ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11"/>
          <p:cNvSpPr/>
          <p:nvPr/>
        </p:nvSpPr>
        <p:spPr>
          <a:xfrm>
            <a:off x="2438280" y="1828800"/>
            <a:ext cx="914400" cy="838080"/>
          </a:xfrm>
          <a:prstGeom prst="flowChartProcess">
            <a:avLst/>
          </a:prstGeom>
          <a:gradFill rotWithShape="0">
            <a:gsLst>
              <a:gs pos="0">
                <a:srgbClr val="99cc00"/>
              </a:gs>
              <a:gs pos="100000">
                <a:srgbClr val="b8210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943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ЮР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19112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5105520" y="1828800"/>
            <a:ext cx="914400" cy="838080"/>
          </a:xfrm>
          <a:prstGeom prst="flowChartProcess">
            <a:avLst/>
          </a:prstGeom>
          <a:solidFill>
            <a:srgbClr val="b821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289548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28954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28954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2895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2895480" y="1905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335268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2 из 145624"/>
          <p:cNvPicPr/>
          <p:nvPr/>
        </p:nvPicPr>
        <p:blipFill>
          <a:blip r:embed="rId1"/>
          <a:stretch/>
        </p:blipFill>
        <p:spPr>
          <a:xfrm>
            <a:off x="533520" y="2590920"/>
            <a:ext cx="2797200" cy="363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артинка 8 из 99289"/>
          <p:cNvPicPr/>
          <p:nvPr/>
        </p:nvPicPr>
        <p:blipFill>
          <a:blip r:embed="rId2"/>
          <a:stretch/>
        </p:blipFill>
        <p:spPr>
          <a:xfrm>
            <a:off x="5715000" y="304920"/>
            <a:ext cx="312408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8:24:50Z</dcterms:created>
  <dc:creator>1</dc:creator>
  <dc:description/>
  <dc:language>en-US</dc:language>
  <cp:lastModifiedBy>gor</cp:lastModifiedBy>
  <dcterms:modified xsi:type="dcterms:W3CDTF">2012-03-10T05:25:2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